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8.wmf" ContentType="image/x-wmf"/>
  <Override PartName="/ppt/media/image38.jpeg" ContentType="image/jpeg"/>
  <Override PartName="/ppt/media/image45.png" ContentType="image/png"/>
  <Override PartName="/ppt/media/image44.jpeg" ContentType="image/jpeg"/>
  <Override PartName="/ppt/media/image31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11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720-A90A-42D3-9935-47D1129A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1E70-83B7-4853-9746-660BB6B9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BFEA-6C3A-468F-A61A-AB3F91C7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716-8402-4D1B-AEC3-BCDE7A30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F95-1F1D-4051-8EDA-805A14F3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C0C7-1091-4347-96E3-37C4A290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D4AB-E587-4DA4-80E2-0176F31D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E2B-6806-4F66-AF0A-19B2C026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86F5-58BA-48E5-8D86-0F204F47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B5C7-A1D2-445B-877F-1B435ACE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075-E121-4635-9D6B-AA6B28B8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7252-EC43-4110-B392-2E65CAEC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B495-D4EB-43F2-B010-E494E2EDB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26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../Local%20Settings/Local%20Settings/Temp/USAcivilwarC.htm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609480"/>
            <a:ext cx="7086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69696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Courier New"/>
              </a:rPr>
              <a:t>The Great Depression</a:t>
            </a:r>
            <a:endParaRPr b="1" lang="en-US" sz="2400" spc="1" strike="noStrike">
              <a:ln w="9360">
                <a:solidFill>
                  <a:srgbClr val="969696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Courier New"/>
              <a:ea typeface="Courier New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2290680" cy="2857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3124080" cy="2244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495680" y="3429000"/>
            <a:ext cx="2489400" cy="3086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553080" y="2438280"/>
            <a:ext cx="2286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ny waited in unemployment lines hoping for a job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354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ople in cities would wait in line for bread to bring to their fami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1722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me families were forced to relocate because they had no mone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1518" t="13264" r="4548" b="13940"/>
          <a:stretch/>
        </p:blipFill>
        <p:spPr>
          <a:xfrm>
            <a:off x="1600200" y="2057400"/>
            <a:ext cx="5715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Impact"/>
              </a:rPr>
              <a:t>“</a:t>
            </a:r>
            <a:r>
              <a:rPr b="1" lang="en-US" sz="6000" spc="-1" strike="noStrike">
                <a:solidFill>
                  <a:srgbClr val="ff0000"/>
                </a:solidFill>
                <a:latin typeface="Impact"/>
              </a:rPr>
              <a:t>Hooverville”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me families were forced to live in shanty tow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grouping of shacks and tents in vacant l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were referred to as “Hooverville” because of President Hoover’s lack of help during the depres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18161" r="0" b="0"/>
          <a:stretch/>
        </p:blipFill>
        <p:spPr>
          <a:xfrm>
            <a:off x="5715000" y="228600"/>
            <a:ext cx="3200400" cy="2705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343400" y="2362320"/>
            <a:ext cx="2971800" cy="2917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629400" y="3809880"/>
            <a:ext cx="2232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4721" b="8182"/>
          <a:stretch/>
        </p:blipFill>
        <p:spPr>
          <a:xfrm>
            <a:off x="609480" y="175248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600200" y="30492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Hooverville</a:t>
            </a:r>
            <a:endParaRPr b="0" i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47920" y="304920"/>
            <a:ext cx="6019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Out of the Dust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62120" y="1752480"/>
            <a:ext cx="48006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Impact"/>
              </a:rPr>
              <a:t>The South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Impact"/>
              </a:rPr>
              <a:t>and the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Impact"/>
              </a:rPr>
              <a:t>Dust Bowl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15000" y="2895480"/>
            <a:ext cx="31240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drought in the South lead to dust storms that destroyed crop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76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429000" y="55627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ust Bowl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Impact"/>
              </a:rPr>
              <a:t>The South Was Burie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ops turned to dust=No food to be sent 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mes bur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elds blown awa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uth in state of emergen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ust Bowl the #1 weather crisis of the 20th centu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95480" cy="2423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24080" y="838080"/>
            <a:ext cx="3200400" cy="2687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3174840" cy="3327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09480" y="2971800"/>
            <a:ext cx="2381400" cy="2971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743200" y="4191120"/>
            <a:ext cx="3124080" cy="2047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5867280" y="1523880"/>
            <a:ext cx="297180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Lucida Handwriting"/>
              </a:rPr>
              <a:t>Two Families During the Depres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05320" cy="4952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91120" y="2362320"/>
            <a:ext cx="4724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1929-1939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ock market cra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dn’t realize the effect it would ha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 money to replenish what was borrow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038480" cy="3124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0" y="51814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y found being broke humilia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Arial Black"/>
              </a:rPr>
              <a:t>A Farm Foreclos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610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99"/>
                </a:solidFill>
                <a:latin typeface="Times New Roman"/>
              </a:rPr>
              <a:t>Some families tried to make money by selling useful crafts like baske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580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9966ff"/>
                </a:solidFill>
                <a:latin typeface="Arial Black"/>
              </a:rPr>
              <a:t>*FDR*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44792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en he was inaugurated unemployment had increased by 7 mill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 became the hope for the coun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or sections (like Harlem) had 50% of the pop. unemplo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stated the “New Dea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228" t="0" r="8295" b="5352"/>
          <a:stretch/>
        </p:blipFill>
        <p:spPr>
          <a:xfrm>
            <a:off x="455760" y="1600200"/>
            <a:ext cx="356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eople everywhere were effected by the depr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t wasn’t till President Roosevelt took over and tried to put the economy back together that people even saw a glimmer of hop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371600" y="1143000"/>
            <a:ext cx="66294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o Kill a</a:t>
            </a:r>
            <a:endParaRPr b="0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ockingbird</a:t>
            </a:r>
            <a:endParaRPr b="0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ajor Historical Happenings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33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im Crow Law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cottsboro Tr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overing from the Great Depre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cial Injust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or Sou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2076480" cy="2895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791320" y="2057400"/>
            <a:ext cx="3352680" cy="2349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343400" y="4267080"/>
            <a:ext cx="2381400" cy="2590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572160" y="5029200"/>
            <a:ext cx="25718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500"/>
                            </p:stCondLst>
                            <p:childTnLst>
                              <p:par>
                                <p:cTn id="4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Black"/>
              </a:rPr>
              <a:t>Jim Crow La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American Civil W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st states in the South passed anti-African American legislation. These became known as Jim Crow law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laws included segregation in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- Hospi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at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- Water founta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taur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t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states forbid inter-racial marri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934320" y="3733920"/>
            <a:ext cx="1530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38088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ff"/>
                </a:solidFill>
                <a:latin typeface="Times New Roman"/>
              </a:rPr>
              <a:t>These laws were instituted in 1896 and were not abolished till the late 1950’s (even then still not completely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581280" y="2362320"/>
            <a:ext cx="3276720" cy="1881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809880" y="4495680"/>
            <a:ext cx="2934000" cy="2032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934320" y="2438280"/>
            <a:ext cx="1969920" cy="403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28600" y="3276720"/>
            <a:ext cx="32767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4191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9 young African-American men  (13-20) accused of raping 2 white girls in 193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mediately sentenced to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ials went on for nearly 15 years before all the men were dismi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90720" y="228600"/>
            <a:ext cx="7162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cottsboro Boys Trial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343400" y="1981080"/>
            <a:ext cx="449568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09480" y="22824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Started on a train bound for Memph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Several white men boarded and picked a fight with the black 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Whites were forced off train by the 12 black men. The white men reported the the black men had raped two white girls on the train to author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They were immediately arrested and tried in front of an all-white ju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The Roaring 20’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ew concept of “credit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were buy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omob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t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 times reig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nc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app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589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he trials caused a huge uproar amongst the black communit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3082" t="3282" r="1041" b="10740"/>
          <a:stretch/>
        </p:blipFill>
        <p:spPr>
          <a:xfrm>
            <a:off x="1143000" y="2057400"/>
            <a:ext cx="7086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523880" y="228600"/>
            <a:ext cx="60199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Harper Lee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76720" y="3048120"/>
            <a:ext cx="3093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Wrote </a:t>
            </a: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To Kill a Mockingbird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in 196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sed the story on her life growing up in Monroeville, Alab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TKAM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was the only novel she ever wr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0" y="685800"/>
            <a:ext cx="3917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46483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character of “Dill,” Scout and Jem’s playmate in the novel was based upon Lee’s actual neighbor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ruman Cap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pote is famous for amongst other things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 Cold Bloo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reakfast at Tiffany’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 has been said that he gave Le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ckingbir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s a gi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0908" t="0" r="0" b="0"/>
          <a:stretch/>
        </p:blipFill>
        <p:spPr>
          <a:xfrm>
            <a:off x="5105520" y="380880"/>
            <a:ext cx="3733560" cy="2732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638680" y="3352680"/>
            <a:ext cx="3048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1962 the novel was turned into a film starring Gregory Pec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 received a humanitarian award and several Academy Award nomin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29200" y="1066680"/>
            <a:ext cx="3546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371600" y="1600200"/>
            <a:ext cx="6248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Why was this ba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8765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redit sy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ople didn’t really have the money they were spe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W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U.S. was a major credit loaner to other nations in n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y of these nations could not pay us 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840200" y="1676520"/>
            <a:ext cx="35305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Impact"/>
              </a:rPr>
              <a:t>The Stock Mark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ople bought stocks on </a:t>
            </a:r>
            <a:r>
              <a:rPr b="1" i="1" lang="en-US" sz="3600" spc="-1" strike="noStrike">
                <a:solidFill>
                  <a:srgbClr val="66ff33"/>
                </a:solidFill>
                <a:latin typeface="Times New Roman"/>
              </a:rPr>
              <a:t>margi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f a stock is $100 you can pay $10 now and the rest later when the stock r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ocks f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w the person has less than $100 and no money to pay 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50496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99"/>
                </a:solidFill>
                <a:latin typeface="Impact"/>
              </a:rPr>
              <a:t>And then…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1280" y="304920"/>
            <a:ext cx="55627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th people panicking about their money investors tried to sell their stoc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leads to a huge decline in st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cks were worthless 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ople who bought on “margins” now could not p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vestors were average people that were now bro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047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343400" y="175212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rbert Hoover was president at the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ilosophy: We’ll make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He Did: No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poor were looking for help and no ideas on how to correct or help were co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600200" y="228600"/>
            <a:ext cx="5867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President Hoover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0160" y="1676520"/>
            <a:ext cx="4238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Farmers were already feeling the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ices of crops went d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y farms foreclo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eople could not afford luxu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ctories shut d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sinesses went 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nks could not pay out mo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eople could not pay their ta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hools shut down due to lack of fu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Many families became homeless and had to live in shan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19320" y="228600"/>
            <a:ext cx="6914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08080"/>
                </a:solidFill>
                <a:latin typeface="Courier New"/>
              </a:rPr>
              <a:t>What about the people?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808080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541680" cy="4359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0" t="0" r="4086" b="6730"/>
          <a:stretch/>
        </p:blipFill>
        <p:spPr>
          <a:xfrm>
            <a:off x="1981080" y="3429000"/>
            <a:ext cx="3581640" cy="3173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495680" y="533520"/>
            <a:ext cx="4102200" cy="2946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410080" y="3962520"/>
            <a:ext cx="37339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gie</cp:lastModifiedBy>
  <dcterms:modified xsi:type="dcterms:W3CDTF">2009-01-12T05:11:58Z</dcterms:modified>
  <cp:revision>17</cp:revision>
  <dc:subject/>
  <dc:title>PowerPoint Presentation</dc:title>
</cp:coreProperties>
</file>